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A181-31AE-4D22-B2A9-95141D73B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FF8F-63F4-40BF-B5D7-FBB042D39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49FB-7536-4AD1-BC47-F75457AFC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F243-BDA2-4BDD-8344-0CF20E1B7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4708-F02F-4E87-B7D0-25129FF30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8294-B200-45DD-897C-303636349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D219-4696-47F2-B62F-5D7FE3E17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D28E-7A0F-4790-9199-69FD21D79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6F9-E8EE-408A-9E2C-1DE9C37AC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D4DE-BFBB-4ACB-92C4-4B3AB7C5F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BB7C-860B-4276-BE11-F228DCAF3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CF87-C17E-40EB-BA1A-FED2EE32B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2206-A4E4-4F4F-873B-85B0B1CC92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facstaff.buffalostate.edu/beaverjf/WebQuests/web-E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mmarch.com/learning/index.ph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ebquest.org/index.php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ebquest.sdsu.edu/designsteps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bquest.sdsu.edu/project-selection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quest.sdsu.edu/processguide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2193840" y="341280"/>
            <a:ext cx="44704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WebQu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4800600"/>
            <a:ext cx="461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o, What, When, Where, How, and Why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UC 7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dy Gosw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215424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36840" y="282600"/>
            <a:ext cx="2941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2880" y="1397160"/>
            <a:ext cx="70866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facstaff.buffalostate.edu/beaverjf/WebQuests/web-ES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train.rps205.com/tift2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ebquest.org/index.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344080" cy="51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WebQu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velop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ernie Do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fessor of Educational Technology at San Diego State Universit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Lucida Grande"/>
              </a:rPr>
              <a:t>Other contribu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Lucida Grande"/>
              </a:rPr>
              <a:t>Tom March, SDSU/Pacific Bell Fel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tommarch.com/learning/index.ph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ducational Technology Staff at San Diego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articipants from Teach the Teachers Consort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362320" cy="2166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4430880"/>
            <a:ext cx="1904760" cy="163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419720" cy="324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75800" y="304920"/>
            <a:ext cx="3690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at is a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ebQuest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495680"/>
            <a:ext cx="79632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ebQuests are relatively new technology based lesson plans tha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coming increasingly popular in the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ebQuests are an excellent way to differentiate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 the classroom and maintain the attention of the students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“A WebQuest is an inquiry-oriented lesson format in which most or all the information that learners work with comes from the web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Dodge, Bernie. (2007b). WebQuests. Retrieved July 5, 2008, from Department of Educational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Technology: San Diego University. Web sit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ebquest.org/index.php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077640" cy="1211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677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ebQuest Design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pi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 a design well-suited to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termine authe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ig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lete and refine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715000"/>
            <a:ext cx="627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dge, B. (2007). WebQuests Design Process. Retrieved July 7, 2008, from Department of Educational Technology: San Diego University Webs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ebquest.sdsu.edu/designsteps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pic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this topic tied to the standards I should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ll this topic make good use of the W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ve you been dissatisfied with previous lessons on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ll this topic require deep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dge, B. (1999).  Selecting a WebQuest Project. Retrieved July 7, 2008, from Department of Educational Technology: San Diego University Web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quest.sdsu.edu/project-selection.htm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reating Web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"Traditionally WebQuests have an introduction, a process, a task, a list of resources, a conclusion, and an evaluation (Spartanburg County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ten teachers create a simulated career experience for the students to undergo during the Web Quest, such as, “You are an astronaut planning a trip to the moon.” (Concept to Classroom, 2004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udent and Teacher Process Gu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ing together:  Brainstorm, Agree on Topic, 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uides for evaluating websites, primary sources, and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chniques for successful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ips on persuasiv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Dowell, D. (1999). Process Guides. Retrieved July 7, 2008, from Department of Educational Technology: San Diego University Websit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quest.sdsu.edu/processguid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568520"/>
            <a:ext cx="1676520" cy="14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63836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dvantages to using WebQuests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major benefits of Web Quests are: “Tomorrow's workers will need to be able to work in teams. Individuals will move through several careers in the course of a lifetime. The issues facing citizens will become more and more complex, and societal problems will resist easy fixes or black-and-white categorization, The amount of information available to everyone will grow at an accelerating pace; much of it will come directly from a growing number of sources without filtering or verification. (Concept to Classroom, 2004)” The use of Web Quests teaches students how to become lifelong independent learner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 crew</dc:creator>
  <dc:description/>
  <dc:language>en-US</dc:language>
  <cp:lastModifiedBy/>
  <cp:revision>0</cp:revision>
  <dc:subject/>
  <dc:title>Slide 1</dc:title>
</cp:coreProperties>
</file>